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067-5F35-48C1-8576-99B21411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B6C-578B-4347-B094-1062DD16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4AB-ED34-4ADC-A5FF-C88A0597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D4D-B736-49FC-8BFC-3E9900CE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7C5B-EE55-4B84-975C-45AC1112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45FF-7185-44D9-9086-1F276361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D778-6D5D-4D8A-812C-26EC34F8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5B86-ADEC-49A6-99C2-DEAFC9FE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329C-4E09-4865-AC32-6C0F169A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C282-2FC9-409D-86EB-C22A18CC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B920-D6BD-4C69-A1EC-F5342EF3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D8E-CF99-418D-8E7C-5DFCF186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D2C8-6931-449C-B000-613B9B38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EE8B-8855-4E6A-B0F9-A0143B69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BABF-1E44-44A9-831E-EE92C006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72E0-3584-448E-9421-86487089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C394-0DA7-4744-920F-05FA2A4F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1E7-181E-48E5-8708-3D6A908A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053-F352-43C1-BEE7-7295079C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25D-A71A-4E3D-890B-72E69420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619-1045-4F16-9C1C-5BC6A498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61E-7697-45D0-973A-CA4034C0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5BD-42BF-4417-A9BC-159DD47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525-ACB3-4F3D-8752-B0BB6088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E373-1454-491D-91AF-9D7DB8914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29FD-34BE-4D9B-B06C-F76F3D910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386160" cy="3962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00400" y="1523880"/>
            <a:ext cx="5410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tistik CE"/>
              </a:rPr>
              <a:t>"KUBUŚ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tistik CE"/>
              </a:rPr>
              <a:t>PUCHATEK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43434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Miś o Bardzo Małym Rozumku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56386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Times New Roman"/>
              </a:rPr>
              <a:t>tytułowy bohater książki    A. A. Milne'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198600" cy="41054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80920" y="30492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 Black"/>
              </a:rPr>
              <a:t>Maleństw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9000" y="1447920"/>
            <a:ext cx="358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jmłodszy mieszkaniec Stumilowego Lasu, żyje razem z noszącą go w torbie mamą Kangurzyc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132680" y="160020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76520" y="5105520"/>
            <a:ext cx="7467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Maleństwo nie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agnie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niczego innego jak tylko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zaimponować Tygrysowi i robić to, co Tygrys robi.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1911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Maleństwo ma ogromne skłonności do „brykania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blinds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19560" y="2282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 Black"/>
              </a:rPr>
              <a:t>Królik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648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Królik jest być moż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ajmądrzejszy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z całej paczki przyjaciół w Stumilowym Lesie. Często mianuje się go przywódcą grup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09680" y="2590920"/>
            <a:ext cx="4648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Królik jest czasem wybuchowy, szczególnie kiedy „bryknie” na niego Tygry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43800" y="1219320"/>
            <a:ext cx="1257480" cy="1954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9480" y="4419720"/>
            <a:ext cx="4343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ale pomimo tego jest jasne, ż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jest wiernym przyjacielem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 posiada serce ze zło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62120" y="3581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521000" cy="17607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48320" y="304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 Black"/>
              </a:rPr>
              <a:t>Pan Sow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leży do starszyzny Stumilowego Las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Jest często wzywany przez Puchatka lub innych na pomoc, aby rozwiązać problem albo wyjaśnić spr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581280" cy="2606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434340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wielbia opowiadać historyjki.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blinds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7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7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914400"/>
            <a:ext cx="46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Kubuś Puchat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72160" y="1143000"/>
            <a:ext cx="3159000" cy="5127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0880" y="2514600"/>
            <a:ext cx="47246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est własnością ogólnoludzką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2133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57200"/>
            <a:ext cx="4876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Kubuś Pucha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i jego przyjaci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13372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99"/>
                </a:solidFill>
                <a:latin typeface="Times New Roman"/>
              </a:rPr>
              <a:t>LITERATURA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1. A. A. Milne “Kubuś Puchatek” Wyd. “Nasza Księgarnia” Warszawa 199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2. Wesoła Szkoł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Kształcenie zintegrowane w klasie 2;</a:t>
            </a:r>
            <a:br>
              <a:rPr sz="1800"/>
            </a:b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Przewodnik Metodyczny część 2, 3; Wydanie 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Podręcznik cz. 2; Hanna Dobrowolska, Anna Koniec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Karty pracy ucznia cz. 2; Hanna Dobrowolska, </a:t>
            </a:r>
            <a:br>
              <a:rPr sz="1800"/>
            </a:b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Anna Konieczna, Krystyna Wasilewsk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Matematyka cz. 2; Jadwiga Hanisz, WSiP, Warszawa 2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3. Przewodnik Metodyczny dla nauczyciela, Lektura Szkolna w klasach 1 – 3; 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Wyd. JUKA Łódź 199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4. Lektura w klasach I – III Krystyna Lenartowska i Wacława Świąte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5.  </a:t>
            </a:r>
            <a:r>
              <a:rPr b="1" lang="pl-PL" sz="1800" spc="-1" strike="noStrike">
                <a:solidFill>
                  <a:srgbClr val="003399"/>
                </a:solidFill>
                <a:latin typeface="Times New Roman"/>
              </a:rPr>
              <a:t>http://www.puchatek.hm.pl</a:t>
            </a:r>
            <a:r>
              <a:rPr b="0" lang="pl-PL" sz="1800" spc="-1" strike="noStrike">
                <a:solidFill>
                  <a:srgbClr val="003399"/>
                </a:solidFill>
                <a:latin typeface="Times New Roman"/>
              </a:rPr>
              <a:t>    - Strona Szymona - małe co nie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5335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9966"/>
                </a:solidFill>
                <a:latin typeface="Arial"/>
              </a:rPr>
              <a:t>Alan Alexander Mi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339966"/>
                </a:solidFill>
                <a:latin typeface="Arial"/>
              </a:rPr>
              <a:t>urodził się 18 stycznia 1882 r. </a:t>
            </a:r>
            <a:br>
              <a:rPr sz="2400"/>
            </a:br>
            <a:r>
              <a:rPr b="0" i="1" lang="pl-PL" sz="2400" spc="-1" strike="noStrike">
                <a:solidFill>
                  <a:srgbClr val="339966"/>
                </a:solidFill>
                <a:latin typeface="Arial"/>
              </a:rPr>
              <a:t>w Londynie,</a:t>
            </a:r>
            <a:r>
              <a:rPr b="0" lang="pl-PL" sz="2400" spc="-1" strike="noStrike">
                <a:solidFill>
                  <a:srgbClr val="339966"/>
                </a:solidFill>
                <a:latin typeface="Arial"/>
              </a:rPr>
              <a:t> 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676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66"/>
                </a:solidFill>
                <a:latin typeface="Times New Roman"/>
              </a:rPr>
              <a:t>zmarł 31 stycznia 1956 rok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0574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Times New Roman"/>
              </a:rPr>
              <a:t>W 1920 roku urodził się jego jedyny syn Christopher Robin (Krzyś).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12408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zejęty narodzinami syna ta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zabrał się do pisania dla niego książk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1911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66"/>
                </a:solidFill>
                <a:latin typeface="Times New Roman"/>
              </a:rPr>
              <a:t>W 1926 roku wydany zosta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66"/>
                </a:solidFill>
                <a:latin typeface="Times New Roman"/>
              </a:rPr>
              <a:t>w Londy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339966"/>
                </a:solidFill>
                <a:latin typeface="Times New Roman"/>
              </a:rPr>
              <a:t>,,Kubuś Puchate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339966"/>
                </a:solidFill>
                <a:latin typeface="Times New Roman"/>
              </a:rPr>
              <a:t>("Winnie the Pooh"),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5334120" y="46483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a w roku 19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,,Chatka Puchatka''.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0" y="457200"/>
            <a:ext cx="1886040" cy="3063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3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koch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ły mi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iesz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w głęb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1600" y="41436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Kubuś Pucha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87692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Times New Roman"/>
              </a:rPr>
              <a:t>Stumilow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Times New Roman"/>
              </a:rPr>
              <a:t>La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5791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zabawne - pomyślał Puchatek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- Wiem, że miałem tu garnek miodu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łen garnek, pełen miodu aż po brzegi,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 na nim było napis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8862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żebym wiedział że to jes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2971800"/>
            <a:ext cx="2895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JUT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4495680"/>
            <a:ext cx="5029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ÓD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5000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3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200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rzy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ygry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siacz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ról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łapouch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na So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angurzy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 Maleń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04920"/>
            <a:ext cx="777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Kubuś Puchatek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ba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o szczęście swoich przyjació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67120" y="1371600"/>
            <a:ext cx="5276880" cy="4505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38960" y="0"/>
            <a:ext cx="360504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Krzyś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Zaczął opowiadać Puchatkowi </a:t>
            </a:r>
            <a:br>
              <a:rPr sz="2400"/>
            </a:b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o rozmaitych rzeczac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43828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 ludziach zwanych Królami i Królowymi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267000"/>
            <a:ext cx="57909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 o miejscu zwanym Europą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733920"/>
            <a:ext cx="5790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i o wyspie na samym środku morza, dokąd żaden statek jeszcze nie przypłynął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572000"/>
            <a:ext cx="5791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 jak się napełnia base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odą (jeśli się chce)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181480"/>
            <a:ext cx="57909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i o tym jak za dawnych czasów pasowano młodzieńców na rycerzy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5867280"/>
            <a:ext cx="3657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 co przychodzi z Cejlonu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blinds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58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 Black"/>
              </a:rPr>
              <a:t>Kłapouch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410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Kłapouchy jest czarującym, melancholijnym osiołki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286000" cy="2342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066680" y="4267080"/>
            <a:ext cx="5181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Kłapouchy nie jest zbyt żwaw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a dobre serce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i zawsze jest wdzięczny za wszystk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Gdy przyjaciele wręczają Kłapouchemu coś miłego ten zazwyczaj mówi: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„dziękuję”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lub coś podob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629400" y="43434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2378160" cy="2342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 Black"/>
              </a:rPr>
              <a:t>Prosiaczek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5623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lutki Prosiaczek o łagodnym gło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est bojaźliwym zwierzątkiem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est szczodry i oddany duchem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 sprawia, że swoim charakterem przeważa skromny wzr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114800"/>
            <a:ext cx="5334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Ze swoimi różowymi uszkami, swetrem w czerwono-czarne paski i zimowym szalikiem na szyi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siaczek jest skromny, zawsze gościnny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 obdarzony bogatą wyobraźni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0552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 Black"/>
              </a:rPr>
              <a:t>Tygry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53120" y="3429000"/>
            <a:ext cx="2090880" cy="3429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90720" y="426708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ygrys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zawsze przechwala się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, że jest jedyny i niepowtarzal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152388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o skaczący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fikający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i bryka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819520"/>
            <a:ext cx="4724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mieszkaniec Stumilowego La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iecznie skory do zabawy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57680" cy="291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23:11:04Z</dcterms:created>
  <dc:creator>ggg</dc:creator>
  <dc:description/>
  <dc:language>en-US</dc:language>
  <cp:lastModifiedBy>sp20</cp:lastModifiedBy>
  <dcterms:modified xsi:type="dcterms:W3CDTF">2011-10-10T11:53:58Z</dcterms:modified>
  <cp:revision>85</cp:revision>
  <dc:subject/>
  <dc:title>Bez tytułu slajdu</dc:title>
</cp:coreProperties>
</file>